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81960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72480" y="26935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56672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81960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72480" y="4257720"/>
            <a:ext cx="214524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69640" y="1045800"/>
            <a:ext cx="7380360" cy="46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980960" y="42577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6672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80960" y="2693520"/>
            <a:ext cx="325116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566720" y="4257720"/>
            <a:ext cx="6662880" cy="142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720"/>
            <a:ext cx="7958160" cy="36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799"/>
              </a:spcBef>
              <a:buClr>
                <a:srgbClr val="3333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55440" indent="-200880">
              <a:spcBef>
                <a:spcPts val="799"/>
              </a:spcBef>
              <a:buClr>
                <a:srgbClr val="33333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57120" indent="-200880">
              <a:spcBef>
                <a:spcPts val="799"/>
              </a:spcBef>
              <a:buClr>
                <a:srgbClr val="333333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58800" indent="-200880">
              <a:spcBef>
                <a:spcPts val="799"/>
              </a:spcBef>
              <a:buClr>
                <a:srgbClr val="333333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58800" indent="-2008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58800" indent="-200880"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7520" y="6586560"/>
            <a:ext cx="9442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81160" y="6402240"/>
            <a:ext cx="500544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34280" y="658800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DC478-3656-443E-9C1B-B9F9AA9C5A64}" type="slidenum">
              <a:rPr b="1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5670360" y="326124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dddddd"/>
                </a:solidFill>
                <a:latin typeface="Arial Black"/>
              </a:rPr>
              <a:t>1</a:t>
            </a:r>
            <a:r>
              <a:rPr b="0" lang="es-MX" sz="1400" spc="-1" strike="noStrike" baseline="30000">
                <a:solidFill>
                  <a:srgbClr val="dddddd"/>
                </a:solidFill>
                <a:latin typeface="Arial Black"/>
              </a:rPr>
              <a:t>ra</a:t>
            </a:r>
            <a:r>
              <a:rPr b="0" lang="es-MX" sz="1400" spc="-1" strike="noStrike">
                <a:solidFill>
                  <a:srgbClr val="dddddd"/>
                </a:solidFill>
                <a:latin typeface="Arial Black"/>
              </a:rPr>
              <a:t> Reunión Nacional de  Ciencias Empresar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7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8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50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333333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333333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333333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rebuchet MS"/>
              </a:rPr>
              <a:t>Nuevas Tendencias Administrativas “ Reingenieria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914040" y="2666880"/>
            <a:ext cx="80010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rección General de Recursos Hu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eparado para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ingeniería de proces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y mejora del desemp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es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ic. Jaime G. 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chez Carri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971640" y="321840"/>
            <a:ext cx="737856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5. Modelos de Reingenier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81000"/>
            <a:ext cx="807696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Modelo de Reingeniería Rápida  (R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eparac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 del estud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dentificac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 de áreas de oportun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Vis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 y alc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 Técnico.- aplicación de herramien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 Social.- Recursos Hu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ransformac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.- cambios, simplificac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, valor agreg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No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focado a realizar una reingeniería en el menor tiempo posible (ejemplo 6 meses) al definir claramente la Visión del proceso, lo prepara y redefi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un buen modelo, aunque requiere de un total involucramiento de los Lideres de la organización(si no se da;  se llega al fracas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odelos clásicos :(continua)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543800" y="5929200"/>
            <a:ext cx="91440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73785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5.1. Modelo America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627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Sus pasos  :</a:t>
            </a:r>
            <a:r>
              <a:rPr b="0" lang="es-ES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.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evis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 en lo fundamenta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- Posicionamiento.(Que y porque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edis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 radica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- cambio en los procesos.(!Reinventar el negocio!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joras espectaculare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- Valor Agregado.(resultaos contundentes!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.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endimient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, costos, servicios.- Indicadores de Productiv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5.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lianzas estratégic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- convenios y Outsourc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Notas</a:t>
            </a:r>
            <a:r>
              <a:rPr b="0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focado a encontrar mejoras espectaculares, aunque descuida el factor Humano,que juega un papel clave en las organizaciones Mexica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bueno pero muy exigente ya que permite un posicionamiento de l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rganización con estándares de Clase Mund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467480" y="6019920"/>
            <a:ext cx="99072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99640" y="1886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5.2. Modelo Ingles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496000" cy="45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8080"/>
                </a:solidFill>
                <a:latin typeface="Arial"/>
              </a:rPr>
              <a:t>     </a:t>
            </a:r>
            <a:r>
              <a:rPr b="1" lang="es-MX" sz="2800" spc="-1" strike="noStrike">
                <a:solidFill>
                  <a:srgbClr val="0000cc"/>
                </a:solidFill>
                <a:latin typeface="Arial"/>
              </a:rPr>
              <a:t>Sus paso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808080"/>
                </a:solidFill>
                <a:latin typeface="Arial"/>
              </a:rPr>
              <a:t>1.-</a:t>
            </a:r>
            <a:r>
              <a:rPr b="1" lang="es-MX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Descubrimiento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Plan estratégico en busca del domi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.-</a:t>
            </a:r>
            <a:r>
              <a:rPr b="1" lang="es-MX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dis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r.-</a:t>
            </a:r>
            <a:r>
              <a:rPr b="1" lang="es-MX" sz="24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talle del proceso.(participación de la G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.-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alizaci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.- Puesta en marcha.(involucramiento del Persona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Notas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l enfocarse en el factor Humano es un modelo apropiado y adaptable en las organizaciones Mexica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no de sus puntos débiles a diferencia del modelo Americano es que cuestiona la implan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7467480" y="5867280"/>
            <a:ext cx="99072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2692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5.3. Modelo Japonés.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con enfoque al Mercado).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9640" y="1484280"/>
            <a:ext cx="8280360" cy="49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.- Identifica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 de </a:t>
            </a:r>
            <a:r>
              <a:rPr b="1" lang="es-MX" sz="2800" spc="-1" strike="noStrike" u="sng">
                <a:solidFill>
                  <a:srgbClr val="0000cc"/>
                </a:solidFill>
                <a:uFillTx/>
                <a:latin typeface="Arial"/>
              </a:rPr>
              <a:t>Sus Pasos :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0portunidad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[como  localiza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rietas y áreas de mejora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.- Desarrollo de estrateg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.- Dis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de estrategias para la operación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.- Conserva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 y crecimiento del merc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 se identifica como un modelo nato de Reingeniería, ya que en la cultura Japonesa es difícil que acepte este concepto como en Occid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u principal aporta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 es que se enfoca a un determinado nicho de Mercado, donde existen posibilidades de penetrar y hacer negocio  .-”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Business are Business “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7543800" y="6019920"/>
            <a:ext cx="91440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16000" y="333360"/>
            <a:ext cx="73785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6. Metodolog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809640" y="141264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Mejora de Proceso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tervienen todos los integrantes de la Organización y se orientan hacia los consumidores y a los Proce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 mejora continua de los procesos cumplira una fun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 integral en el éxito de los demás m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odos y procedimien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atisfac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 del cliente Interno y externo de la Organiza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ar un Valor agregado al trabajo.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“ &gt; productividad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7467480" y="5943600"/>
            <a:ext cx="99072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16000" y="476280"/>
            <a:ext cx="73785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7.- Redis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o de Proces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09640" y="1557000"/>
            <a:ext cx="7958160" cy="36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concentra en los proces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mas importantes que rebasan los limites funcion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Fundamentalmente se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orienta hacia el client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y de manera continua se plantea la pregun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3300"/>
                </a:solidFill>
                <a:latin typeface="Arial"/>
              </a:rPr>
              <a:t>¿EN VERDAD ES NECESARIO  HACER  ESTO....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cc"/>
                </a:solidFill>
                <a:latin typeface="Arial"/>
              </a:rPr>
              <a:t>! Se debe aplicar la actitud interrogante....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6705720" y="5105520"/>
            <a:ext cx="175248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37892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8. “ El Valor Agregado “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271080" y="1628640"/>
            <a:ext cx="86439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El Éxito del Negocio a través de un compromiso a la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cc"/>
                </a:solidFill>
                <a:latin typeface="Arial"/>
              </a:rPr>
              <a:t>                      </a:t>
            </a:r>
            <a:r>
              <a:rPr b="0" lang="es-MX" sz="2800" spc="-1" strike="noStrike">
                <a:solidFill>
                  <a:srgbClr val="0000cc"/>
                </a:solidFill>
                <a:latin typeface="Arial"/>
              </a:rPr>
              <a:t>“ </a:t>
            </a:r>
            <a:r>
              <a:rPr b="1" lang="es-MX" sz="2800" spc="-1" strike="noStrike">
                <a:solidFill>
                  <a:srgbClr val="0000cc"/>
                </a:solidFill>
                <a:latin typeface="Arial"/>
              </a:rPr>
              <a:t>Excelente satisfacci</a:t>
            </a:r>
            <a:r>
              <a:rPr b="1" lang="es-ES" sz="2800" spc="-1" strike="noStrike">
                <a:solidFill>
                  <a:srgbClr val="0000cc"/>
                </a:solidFill>
                <a:latin typeface="Arial"/>
              </a:rPr>
              <a:t>ó</a:t>
            </a:r>
            <a:r>
              <a:rPr b="1" lang="es-MX" sz="2800" spc="-1" strike="noStrike">
                <a:solidFill>
                  <a:srgbClr val="0000cc"/>
                </a:solidFill>
                <a:latin typeface="Arial"/>
              </a:rPr>
              <a:t>n del Client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Mediante la mejora de la Calidad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ductividad    +   Competitividad     +    Rentabilidad 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iminación de costos y desperdicio =  + Utilidades.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abiduría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ara manejar la incertidumbre del cambio y del tiempo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38680" y="60199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783480" y="5381640"/>
            <a:ext cx="167472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9. Redis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o del trabajo.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(Especific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7640" y="1625760"/>
            <a:ext cx="889308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el proceso de cambiar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actitud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l personal; por el  “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como “Si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manera de ejecutar una serie de actividades, con objeto de mejor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oductividad  y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ear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esponsabilidades  compartida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y  proporcionar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jores oportunidade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y  puestos de trabajo para las perso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característica  m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 singular de este proceso es que en vez de involucrar  exclusivamente a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xperto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 ejecutivos de alto nivel, estimula que los empleados de todos los niveles y  funciones -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articipen en el proces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para recomendar cambios en el dis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o de sus activ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 esta manera se obtiene mas informa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, se cuenta con la participa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 de los que están involucrados en la ac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mueve un compromis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s efectivo de todos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(continua......)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7391520" y="6019920"/>
            <a:ext cx="106668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93800" y="1886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Redise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ñ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o del trabajo.</a:t>
            </a:r>
            <a:br>
              <a:rPr sz="3200"/>
            </a:b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nceptos Cla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820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421200" indent="-42120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Conceptos clav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*   Todos los miembros de la organización tienen que estar involucrados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mprometidos para asegurar resultados óptimo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*   Establecer y observar las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specificaciones critica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para lograr el éxi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*  Cada emplead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yuda a  redis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u propio trabaj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*  Se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dis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n sistemas complet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no tareas de individuales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*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dis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s diferent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igual a resultados iguales, (existen muchas    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neras de llegar a un mismo fin y estandarizar procesos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*  Minimizar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specificaciones criticas.-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l numero de elementos de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dis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  <a:ea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ecesarios  para entrar en producción, con el míni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*  Desarrollo de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habilidades y de creatividad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sin limi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*  Centrarse en el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futuro potencial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specialmente en las exigencias del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l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*  El Objetivo desarrollar un sistema capaz de proporcionar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prendizaje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ejora- continua,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o es un rediseño ni reestructura [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o es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aquillaje].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1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7956720" y="5950080"/>
            <a:ext cx="914400" cy="5475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395280" y="5661000"/>
            <a:ext cx="792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 u="sng">
                <a:solidFill>
                  <a:srgbClr val="0000cc"/>
                </a:solidFill>
                <a:uFillTx/>
                <a:latin typeface="Arial"/>
              </a:rPr>
              <a:t> </a:t>
            </a: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“ </a:t>
            </a: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Resultados contundentes e impactantes 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[Productividad, Eficiencia, menores costos, minimizar desperdici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y  tiempos, simplificación del trabajo, Creación  de valor etc.]</a:t>
            </a: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93800" y="475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0. Porque surgió la Reingenieria de Procesos ?</a:t>
            </a: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8000" y="1819080"/>
            <a:ext cx="9036000" cy="48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Cuestiona las practicas y la conduc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Tradicionales de la direcció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Rompe Paradigmas y costumbres.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hábitos y rutinas!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¡ N</a:t>
            </a: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uevo enfoque en el</a:t>
            </a: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 “Servicio al Cliente”,       .  y en los procesos de negocios; estimula   -  el pensamiento central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7543800" y="6019920"/>
            <a:ext cx="914400" cy="5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09280" y="1681200"/>
            <a:ext cx="8010360" cy="477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finició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bjetiv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cance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iesg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odelos de Reingenierí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todología,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o y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licació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edis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 de Proce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lor Agregad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edis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 del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rque surgió la Reingeniería de Proce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uevos fac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prens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tinua……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6560" y="259920"/>
            <a:ext cx="754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11. Nuevos fact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09640" y="907920"/>
            <a:ext cx="7866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cursos de mayor y mejor capacidad, conocimientos y habilidades de la fuerza laboral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Unión de fuerzas entre pensadores y realizadores.- [ejecutores]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nfoque en el servicio y satisfacci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:  Proveedor-- Cliente interno y externo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mpowerment.- [facultar al personal para que tome decisiones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ión Estratégica.-[desarrollo de Misión, visión, valores y estrategias hacia el futuro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ourcing.-[descentralizar las funciones que no generen  ni agregan valor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sarrollo del Liderazgo [ Leader Ship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ultura de la Calidad [con sistemas de calidad y de mejora continua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uxiliarse c/ las 7 herramientas adminiativas(5-S+1) y Hoshin Kanri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plicar Tecnologías de  la Informaci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 [T.I. / Internet ).- manejo de- informaci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 en tiempo virtual Vs. Real; b2b.; c2c.; b2c.,  etc.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arquitectura.- proceso para redis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r y alineamiento con todos elementos que afectan el desempeño presente y futuro de l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667640" y="476280"/>
            <a:ext cx="9907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/>
          </p:nvPr>
        </p:nvSpPr>
        <p:spPr>
          <a:xfrm>
            <a:off x="304560" y="1915920"/>
            <a:ext cx="8227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Organización  tradicional  esta estructurada  por funciones, de tal forma que se obstaculizan y con frecuencia se ocultan los procesos fundamentales que impulsan el desemp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 y satisfacc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 de los cl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ocasiones quienes participan e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reas funcionales a veces concentran su aportac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 al proceso y no a los verdaderos objetivos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 debe cambiar y enfocar para generar y  entregar bienes y Servicios que complazcan a los Clientes internos y externos, en forma satisfactoria, en tiempo y con calidad to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826560" y="40428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2.Comprensión.</a:t>
            </a:r>
            <a:br>
              <a:rPr sz="3200"/>
            </a:b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“Cambio de Cultura organizacional”.</a:t>
            </a: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5568840"/>
            <a:ext cx="739116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             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! </a:t>
            </a: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Aplicar actitud interrogante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0000"/>
                </a:solidFill>
                <a:latin typeface="Arial"/>
              </a:rPr>
              <a:t>|Que? porque? como?, cuando?, donde?, quie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1"/>
          <a:stretch/>
        </p:blipFill>
        <p:spPr>
          <a:xfrm>
            <a:off x="7885080" y="5589720"/>
            <a:ext cx="99072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457200" y="936720"/>
            <a:ext cx="829152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33cc"/>
                </a:solidFill>
                <a:latin typeface="Arial"/>
              </a:rPr>
              <a:t>Definici</a:t>
            </a:r>
            <a:r>
              <a:rPr b="1" lang="es-ES" sz="2400" spc="-1" strike="noStrike">
                <a:solidFill>
                  <a:srgbClr val="0033cc"/>
                </a:solidFill>
                <a:latin typeface="Arial"/>
              </a:rPr>
              <a:t>ó</a:t>
            </a:r>
            <a:r>
              <a:rPr b="1" lang="es-MX" sz="2400" spc="-1" strike="noStrike">
                <a:solidFill>
                  <a:srgbClr val="0033cc"/>
                </a:solidFill>
                <a:latin typeface="Arial"/>
              </a:rPr>
              <a:t>n de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rie de elementos relacionados entre si, que tienen Objetivo bien definido y concr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 un plan para realizar el trabajo en forma efectiva y efic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cc"/>
                </a:solidFill>
                <a:latin typeface="Arial"/>
              </a:rPr>
              <a:t>Como identificar un siste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be tener un Objetivo.- un inicio definido, un proceso  y un  final cla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uede incluir subsistemas.- conectores con otros sistemas o proce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cc"/>
                </a:solidFill>
                <a:latin typeface="Arial"/>
              </a:rPr>
              <a:t>Elementos que incluye: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* Físico.-(papel,formas,equipo,materiales,instalaciones,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* Información.- (reportes,indicadores, graficas, métodos, Polític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y Procedimientos, diagramas, histogramas etc.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* Humano.-Quien hace...;realización..(que) relaciones..(cuando y com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continua...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793800" y="259920"/>
            <a:ext cx="737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3. Herramientas de apl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429000" y="5522760"/>
            <a:ext cx="4876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7467480" y="6095880"/>
            <a:ext cx="9907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533520" y="98064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Procedimien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flejo escrito del sistema, que explica a las personas, paso a paso, la manera de realizar el trabajo en forma eficiente, efectiva y control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33cc"/>
                </a:solidFill>
                <a:latin typeface="Arial"/>
              </a:rPr>
              <a:t>Creativida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ceso por el cual el individuo descubre leyes científicas, desarrolla Arte, inventa maquinas, produce trabajo intelectual y físico, en beneficio del bienestar de la Human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to de generar y  producir informac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, datos bienes y productos  y probar que son objetivamente cier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pacidad para generar nueva inteligencia y obtenerla para beneficio de ot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cc"/>
                </a:solidFill>
                <a:latin typeface="Arial"/>
              </a:rPr>
              <a:t>Intelig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la capacidad de predecir y controlar el medio ambiente físico, biológico,  Científico y psicoso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cc"/>
                </a:solidFill>
                <a:latin typeface="Arial"/>
              </a:rPr>
              <a:t>Étic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junto de Valores  y principios; objetivos; de verdades, practica del bien y servicio comú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continua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937800" y="189000"/>
            <a:ext cx="73789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13. Herramientas de aplicación..</a:t>
            </a:r>
            <a:r>
              <a:rPr b="0" lang="es-MX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7467480" y="6095880"/>
            <a:ext cx="9907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0000cc"/>
                </a:solidFill>
                <a:uFillTx/>
                <a:latin typeface="Arial"/>
              </a:rPr>
              <a:t>Desarrollo de Val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Valores Empresariales [aplicar Administrac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  y Planeaci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n Estratégica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cliente, el producto, el servicio a la comunidad, la naturalez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ndir siempre el mas alto grado de competenc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mar la iniciativa y Tomar riesg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daptarse al camb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mar decisiones.- [en beneficio común]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bajar en cooperaci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, como Equip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ctuar y ser abiertos, especialmente en cuanto al manejo de informaci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n; a la-  transmisión de noticias sobre problemas actuales y consecuencias futu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fiar y ser dignos de confianza (base de la Étic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spetar a los demás (clientes, Proveedores, y colegas),incluye el respeto prop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sponder de nuestros actos, aceptar la responsabi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Juzgar y ser juzgados, recompensar y ser recompensados de acuerdo al rendimiento, actitud  y actuación [código de Ética y leyes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title"/>
          </p:nvPr>
        </p:nvSpPr>
        <p:spPr>
          <a:xfrm>
            <a:off x="826560" y="-27360"/>
            <a:ext cx="7378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13. Herramientas de apl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429000" y="5522760"/>
            <a:ext cx="487692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7467480" y="6095880"/>
            <a:ext cx="9907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6560" y="404280"/>
            <a:ext cx="73789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14. Procesos y simplif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50920" y="1076400"/>
            <a:ext cx="8424720" cy="57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cc"/>
                </a:solidFill>
                <a:latin typeface="Arial"/>
              </a:rPr>
              <a:t>Proceso primario.-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una serie de acciones sistemáticas que cruzan de manera horizontal diversas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s de la empresa y que, por lo tanto son intrínsicamente multifunciona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cc"/>
                </a:solidFill>
                <a:latin typeface="Arial"/>
              </a:rPr>
              <a:t>Proceso de apoyo.-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njunto de acciones sistemáticas que se realizan dentro de una sola unidad funcional de la Organiz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cc"/>
                </a:solidFill>
                <a:latin typeface="Arial"/>
              </a:rPr>
              <a:t>Simplificar.-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Eliminar tareas y actividades innecesarias que !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No dan valor agregad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 la tarea !,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ni cumple los deseos y expectativas del cl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bemos </a:t>
            </a:r>
            <a:r>
              <a:rPr b="1" lang="es-MX" sz="1800" spc="-1" strike="noStrike">
                <a:solidFill>
                  <a:srgbClr val="0000cc"/>
                </a:solidFill>
                <a:latin typeface="Arial"/>
              </a:rPr>
              <a:t>identifica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ue es lo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mportant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por eso se debe reconocer y eliminar lo que destruye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Valor en el proceso como: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 (cuellos de botella, almacenajes innecesarios, archivos y demoras injustificadas e improductiv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MX" sz="1800" spc="-1" strike="noStrike">
                <a:solidFill>
                  <a:srgbClr val="0000cc"/>
                </a:solidFill>
                <a:latin typeface="Arial"/>
              </a:rPr>
              <a:t>Valor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lo define el cliente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(interno y externo); así como otros factores (empleados, propietarios, inversionistas  y autoridad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licar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cc"/>
                </a:solidFill>
                <a:latin typeface="Arial"/>
              </a:rPr>
              <a:t>Actitud Interrogante: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examinar el trazado del proceso? Podemos acortarlo.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800" spc="-1" strike="noStrike">
                <a:solidFill>
                  <a:srgbClr val="0000cc"/>
                </a:solidFill>
                <a:latin typeface="Arial"/>
              </a:rPr>
              <a:t>! eliminar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dualidades, demoras y repeticiones! Combinar operaciones! mejorar el manejo,  automatizarlo  o  robotizarlo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7467480" y="6095880"/>
            <a:ext cx="9907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826920" y="333360"/>
            <a:ext cx="723276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15. Herramientas Auxiliar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cc"/>
                </a:solidFill>
                <a:latin typeface="Arial"/>
              </a:rPr>
              <a:t>A).-</a:t>
            </a: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 Diagramas de Proce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50920" y="1484280"/>
            <a:ext cx="8642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 recorrido y de multicolumna. [simbologí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TIDA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b) de Operación.(simbología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TIDA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) de Distribu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 y flujo.-[simbología d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.N.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) de Lógica y de Afinidad. .-[simbología d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.N.P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) de Bloque e interrelac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.-.-[simbología d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st. IBM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f)  de A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isis Causa           Raíz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Ishikawa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g) de A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isis de Fuerzas y Debilidades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F.O.D.A.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) Matricial y prioridades. .-[Herramienta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Japonesas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)  Procesos y/o Árbol de decisi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es -[Herramienta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Administrativas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j)  Radial. 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.-[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erramienta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Administrativas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K)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Organigra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)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Dis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 y control de formas, registro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,  manejo de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istemas de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rchivo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y de almacenaj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564000" y="350028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7467480" y="6095880"/>
            <a:ext cx="9907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1042920" y="126828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cc"/>
                </a:solidFill>
                <a:latin typeface="Arial"/>
              </a:rPr>
              <a:t>1.-De Recorrido y de multicolumna.  [ simbología OTIDA ]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829080" y="692280"/>
            <a:ext cx="41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A).- Diagramas de Proces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763640" y="292428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per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836000" y="45450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p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35280" y="3753000"/>
            <a:ext cx="158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ranspor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835640" y="522936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mor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837440" y="58831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lmacenaj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 Arch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826920" y="2997360"/>
            <a:ext cx="505080" cy="431640"/>
          </a:xfrm>
          <a:prstGeom prst="ellipse">
            <a:avLst/>
          </a:prstGeom>
          <a:solidFill>
            <a:srgbClr val="66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26920" y="3789360"/>
            <a:ext cx="576360" cy="431640"/>
          </a:xfrm>
          <a:prstGeom prst="rightArrow">
            <a:avLst>
              <a:gd name="adj1" fmla="val 50000"/>
              <a:gd name="adj2" fmla="val 33382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26920" y="4583160"/>
            <a:ext cx="433440" cy="3585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826920" y="5300640"/>
            <a:ext cx="432000" cy="358920"/>
          </a:xfrm>
          <a:custGeom>
            <a:avLst/>
            <a:gdLst>
              <a:gd name="textAreaLeft" fmla="*/ 0 w 432000"/>
              <a:gd name="textAreaRight" fmla="*/ 432360 w 43200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0800000">
            <a:off x="684000" y="6092640"/>
            <a:ext cx="647640" cy="36036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908360" y="223992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rig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55640" y="2276640"/>
            <a:ext cx="720720" cy="287280"/>
          </a:xfrm>
          <a:prstGeom prst="triangle">
            <a:avLst>
              <a:gd name="adj" fmla="val 5000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761280" y="1940040"/>
            <a:ext cx="165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SCRIPC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55280" y="1940040"/>
            <a:ext cx="183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LASIFICAC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399480" y="2228760"/>
            <a:ext cx="181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icio del proces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419640" y="2776680"/>
            <a:ext cx="372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ceso,  cambio de características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Originales, modificación, valor añadid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400560" y="3645000"/>
            <a:ext cx="304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nejo, traslado, llevar o tra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mbio de dirección o de lug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401640" y="5943600"/>
            <a:ext cx="355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servación, resguardo; protecció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emporal, provisional o definiti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399120" y="5157720"/>
            <a:ext cx="248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traso, retard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Intencional o involuntar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99480" y="4437000"/>
            <a:ext cx="323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visión, verificación; comproba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nalizar, medir, evalu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7269840" y="60674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mproduc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198200" y="534816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mproduc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198200" y="4575240"/>
            <a:ext cx="169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mproductiv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85600" y="357336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Improductiv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85960" y="290052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oductivo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20520" y="227016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ecesari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324000" y="184320"/>
            <a:ext cx="856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cc"/>
                </a:solidFill>
                <a:latin typeface="Arial"/>
              </a:rPr>
              <a:t>Diseño de procedimientos:</a:t>
            </a:r>
            <a:r>
              <a:rPr b="0" lang="es-MX" sz="1600" spc="-1" strike="noStrike">
                <a:solidFill>
                  <a:srgbClr val="0000cc"/>
                </a:solidFill>
                <a:latin typeface="Arial"/>
              </a:rPr>
              <a:t> Secuencia de operaciones, métodos, sistema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0" lang="es-MX" sz="1600" spc="-1" strike="noStrike">
                <a:solidFill>
                  <a:srgbClr val="0000cc"/>
                </a:solidFill>
                <a:latin typeface="Arial"/>
              </a:rPr>
              <a:t>estandarización. [diagramas y descripción del proceso o flujo de la información]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250920" y="1282680"/>
          <a:ext cx="4176720" cy="43070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282680"/>
                    <a:ext cx="417672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206720" y="-4608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4572000" y="1004760"/>
          <a:ext cx="4392720" cy="5158080"/>
        </p:xfrm>
        <a:graphic>
          <a:graphicData uri="http://schemas.openxmlformats.org/drawingml/2006/table">
            <a:tbl>
              <a:tblPr/>
              <a:tblGrid>
                <a:gridCol w="1698840"/>
                <a:gridCol w="2693880"/>
              </a:tblGrid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SPONSABL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pto. De Compra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rol y registro estadístic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DAD   - ACC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. -  Asigna y entrega a cada  Comprador por línea de producto, sus requisicion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.-.   Registra en el sistema datos estadísticos  de  las Rqs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rador Seguidor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3. - Verifica que los tiempos de necesidad del Solicitante estén dentro de los tiempos de entrega para requerimientos normales o “ Urgentes”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prador Seguido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4.-   </a:t>
                      </a: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se detecta diferencia entre la fecha solicitada y la propuesta por el proveedor, notifica al solicitante  para obtener su aceptación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5.-  Solicita  3 cotizaciones con proveedores o prestadores de servicio, conforme a monto de compras, (anexo 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6. - Recibe por escrito las cotizaciones, genera el cuadro comparativo, sugiere la mejor propuesta en función de precio, calidad, tiempos de entrega, condicion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7. - Consulta Con su jefe y/o con el Usuario, las propuestas y recaba Vo.Bo, conforme a tabla de facultades para fincar Ordenes de Compr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8.  Elabora  en el Sistema, la </a:t>
                      </a: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rden de  Compra;(comp.4 a/e); </a:t>
                      </a: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exa el cuadro comparativo y documenta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</a:t>
                      </a: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porte (cotizaciones, catálogos dibujos etc.)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9.- Turna  todo el expediente al Gerente de Compra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0.-Si el monto de la compra es superior a $100,000.00 pesos o su equivalente en dólares, obtiene la autorización adicional del Gerente  de Administración y Finanzas de acuerdo a política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rente de Compra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1. - Revisa la Documentación en caso de estar d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uerdo lo aprueba y Autoriz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 la regresa al comprador,  con observacion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5" name=""/>
          <p:cNvSpPr/>
          <p:nvPr/>
        </p:nvSpPr>
        <p:spPr>
          <a:xfrm>
            <a:off x="4572000" y="836640"/>
            <a:ext cx="4572000" cy="540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98080" y="76320"/>
            <a:ext cx="7587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663300"/>
                </a:solidFill>
                <a:latin typeface="Arial"/>
              </a:rPr>
              <a:t>¿ </a:t>
            </a: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Porque las empresas pierden competitividad.......................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663300"/>
                </a:solidFill>
                <a:latin typeface="Arial"/>
              </a:rPr>
              <a:t>   </a:t>
            </a:r>
            <a:r>
              <a:rPr b="1" i="1" lang="es-ES_tradnl" sz="1800" spc="-1" strike="noStrike" u="sng">
                <a:solidFill>
                  <a:srgbClr val="663300"/>
                </a:solidFill>
                <a:uFillTx/>
                <a:latin typeface="Arial"/>
              </a:rPr>
              <a:t>Diagrama Causa Raíz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80880" y="3200400"/>
            <a:ext cx="6324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77080" y="2708280"/>
            <a:ext cx="226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Arial"/>
              </a:rPr>
              <a:t>Perdida de competitividad y baja productivi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1371240" y="1447920"/>
            <a:ext cx="1066680" cy="1752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5028840" y="1676160"/>
            <a:ext cx="1143000" cy="1523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971640" y="3212640"/>
            <a:ext cx="1512720" cy="227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572000" y="3213000"/>
            <a:ext cx="1728720" cy="2362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5240" y="76500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33cc"/>
                </a:solidFill>
                <a:uFillTx/>
                <a:latin typeface="Arial"/>
              </a:rPr>
              <a:t> </a:t>
            </a:r>
            <a:r>
              <a:rPr b="1" lang="es-ES_tradnl" sz="1600" spc="-1" strike="noStrike" u="sng">
                <a:solidFill>
                  <a:srgbClr val="0033cc"/>
                </a:solidFill>
                <a:uFillTx/>
                <a:latin typeface="Arial"/>
              </a:rPr>
              <a:t>Recursos  Human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0920" y="5613480"/>
            <a:ext cx="264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33cc"/>
                </a:solidFill>
                <a:uFillTx/>
                <a:latin typeface="Arial"/>
              </a:rPr>
              <a:t>Recursos Financiero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280200" y="3451320"/>
            <a:ext cx="167652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Tecnología y especificaciones de proceso obsole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19840" y="716040"/>
            <a:ext cx="228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33cc"/>
                </a:solidFill>
                <a:uFillTx/>
                <a:latin typeface="Arial"/>
              </a:rPr>
              <a:t>Recursos materiales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51080" y="1052640"/>
            <a:ext cx="195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Pecados capitales....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06480" y="1268280"/>
            <a:ext cx="204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Carencia de Liderazgo,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9520" y="2057400"/>
            <a:ext cx="15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dividualism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80880" y="3200400"/>
            <a:ext cx="1752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Hacer las cosas al ahí se va...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378936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stados Financieros extemporáne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690560" y="4332240"/>
            <a:ext cx="165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Incumplimiento en presupuestos de  Oper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95640" y="3465360"/>
            <a:ext cx="1584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ficiente flujo de caja?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24000" y="1916280"/>
            <a:ext cx="165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Baja capacitación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429000" y="55609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33cc"/>
                </a:solidFill>
                <a:uFillTx/>
                <a:latin typeface="Arial"/>
              </a:rPr>
              <a:t>Recursos tecnológ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219640" y="981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Instalaciones  inapropiad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507480" y="4976640"/>
            <a:ext cx="119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Corrup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962520" y="1484280"/>
            <a:ext cx="1092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Ceguera de tal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657600" y="403848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cultura de No Pago de nuestros compromi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851280" y="2205000"/>
            <a:ext cx="180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ficiencias de mantenimiento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529240" y="1773360"/>
            <a:ext cx="278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Maquinaria y equipo.¡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-76320" y="14479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ff3300"/>
                </a:solidFill>
                <a:uFillTx/>
                <a:latin typeface="Times New Roman"/>
              </a:rPr>
              <a:t>Falta de Valores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46440" y="31417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Defi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Educación y preparación Técnica y Empresari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251460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Discapacidad para  proponer y decidi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42040" y="4664160"/>
            <a:ext cx="2075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Incumplimiento en Calidad,  e impuntualidad  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los embarqu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719760" y="2798640"/>
            <a:ext cx="228600" cy="774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160 h 774720"/>
              <a:gd name="textAreaBottom" fmla="*/ 754560 h 77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1066680" y="2361960"/>
            <a:ext cx="9144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1763640" y="1844280"/>
            <a:ext cx="6098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V="1">
            <a:off x="2340000" y="2924280"/>
            <a:ext cx="64764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1371600" y="2971440"/>
            <a:ext cx="99072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1447560" y="3733560"/>
            <a:ext cx="60948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 flipV="1">
            <a:off x="761760" y="457164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1835280" y="4005000"/>
            <a:ext cx="936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1187280" y="5084280"/>
            <a:ext cx="122400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5148360" y="1557000"/>
            <a:ext cx="9349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580000" y="2060280"/>
            <a:ext cx="64764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4800240" y="205704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5148360" y="2637000"/>
            <a:ext cx="79200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5076720" y="3860640"/>
            <a:ext cx="486000" cy="25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V="1">
            <a:off x="5562720" y="4076280"/>
            <a:ext cx="80964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flipV="1">
            <a:off x="4859280" y="5013360"/>
            <a:ext cx="136836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4190760" y="5333760"/>
            <a:ext cx="53316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837720" y="1752480"/>
            <a:ext cx="76212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 flipV="1">
            <a:off x="5867280" y="2494080"/>
            <a:ext cx="7207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92600" y="2203560"/>
            <a:ext cx="205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Insuficiente y defectuo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materia pr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V="1">
            <a:off x="2162160" y="2421000"/>
            <a:ext cx="39384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2463480" y="2550960"/>
            <a:ext cx="160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Bajos salarios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falta de incen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09640" y="2138040"/>
            <a:ext cx="7958160" cy="31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13. Herramientas de apl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14. Procesos y simplif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15. Herramientas auxili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16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clusione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17. Proyecto de Reingeniería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.-(detección de necesidades de capacitació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18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bliografí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315200" y="5562720"/>
            <a:ext cx="114300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466560" y="42840"/>
            <a:ext cx="86774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 u="sng">
                <a:solidFill>
                  <a:srgbClr val="0000cc"/>
                </a:solidFill>
                <a:uFillTx/>
                <a:latin typeface="Arial"/>
              </a:rPr>
              <a:t>Diagrama Radial</a:t>
            </a:r>
            <a:r>
              <a:rPr b="1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.-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jemplo: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Clasificar el desempeño Organiza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para presentación de resul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47680" y="692280"/>
          <a:ext cx="880092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680" y="692280"/>
                    <a:ext cx="880092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1" name=""/>
          <p:cNvSpPr/>
          <p:nvPr/>
        </p:nvSpPr>
        <p:spPr>
          <a:xfrm>
            <a:off x="7009560" y="1622520"/>
            <a:ext cx="188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Times New Roman"/>
              </a:rPr>
              <a:t>PARAMETR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971640" y="1908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15.-           B)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“ 13 Fundamentos”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79280" y="341280"/>
            <a:ext cx="8964720" cy="72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200" spc="-1" strike="noStrike" u="sng">
                <a:solidFill>
                  <a:srgbClr val="0000cc"/>
                </a:solidFill>
                <a:uFillTx/>
                <a:latin typeface="Arial"/>
              </a:rPr>
              <a:t>Empezar de “ O “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2) Cambios radicales,brutales y expectacula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3) Enfocarse a Procesos y no a departamentos o áreas, trabajos, personas 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tructur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4) Visión Holistica ( Del conocimiento)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5) Observar todos los procesos desde una perspectiva integral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, ( ver el tod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y  no solo las parte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6)  Los actores deben ser capaces de desempeñar mas de un Rol,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multifuncionales y multihabilida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7) Apoyarse en el principio de la incertidumbre (teoría del caos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8) La destrucción creativa es la herramienta principal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9) No hay un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“modelo de Reingenieri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”, ni hay un plan preestablec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0) Lo mas importante es un cambio de mentalidad / enfoque (Metodologí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biert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1) En la 1a parte debe realizarse de arriba hacia abajo,     apoyada por el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íder de la Organización(requiere de apoyo y compromiso para prospera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2) En la 2a fase requiere un impulso en sentido inverso,      convencimiento y                   -          compromiso ( amor a la camiseta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13)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i no estamos convencidos y comprometidos es mejor no hac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Reingenierí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796000" y="50846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7772400" y="6553080"/>
            <a:ext cx="685800" cy="30492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 flipV="1">
            <a:off x="5867280" y="566064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1763640" y="393840"/>
            <a:ext cx="6624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5. Herramientas Auxili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).-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Convergencia de Resultad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5480" y="2125800"/>
            <a:ext cx="18432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7620120" y="6019920"/>
            <a:ext cx="685800" cy="30456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253080" y="1960560"/>
            <a:ext cx="439416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Varios oficios se combinan en un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trabajadores toman deci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Empowerment.Faculta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pasos del proceso se ejecut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 orden natura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procesos tienen múltiples version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trabajo se realiza en el sitio razon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e reducen las verificaciones y los control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conciliación se minimiz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mbian las unidades de Trabajo,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partamentos funcionales a equipos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ces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oficios cambian de tareas </a:t>
            </a: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simples </a:t>
            </a: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rabajos  multifuncional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papel del trabajador cambia de control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 facultad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06640" y="2041560"/>
            <a:ext cx="4159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preparación para el oficio cambi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trenamiento a educación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enfoque de medidas de desempeño 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mpensación se desplaza de activida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 resultad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mbian los criterios de ascens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rendimiento a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habili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valores cambian de proteccionista 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roductiv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roles de los Gerentes cambia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upervisor a facilitador Coach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s estructuras organizacionales cambi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jerarquías a plan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s ejecutivos cambian de Anotadores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antos a Lide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9280" y="1916280"/>
            <a:ext cx="4392720" cy="46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608360" y="1916280"/>
            <a:ext cx="4427640" cy="46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1752480" y="317520"/>
            <a:ext cx="68580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5. Herramientas Auxiliares.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.      d.- “ Guia de Bolsillo</a:t>
            </a: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”: </a:t>
            </a:r>
            <a:r>
              <a:rPr b="1" lang="es-MX" sz="1600" spc="-1" strike="noStrike">
                <a:solidFill>
                  <a:srgbClr val="0000cc"/>
                </a:solidFill>
                <a:latin typeface="Arial"/>
              </a:rPr>
              <a:t>Nota.-No existe una metodologia rigida que se pueda aplicar a todo tipo de empresa, pero si una serie de principios que deben responder a las necesidades de toda Organiz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5400" y="1905120"/>
            <a:ext cx="419508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Preparación.-</a:t>
            </a: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conocer la necesida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sarrollar un consenso  Ejecutiv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pacitar al Equip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ificar el camb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Seleccionar y capacitar al equipo de Ingenierí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sarrollar el Documento Plan de camb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(pacto entre la Dirección y el Equipo de Ingenierí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municar el cambio a todos en la Organiz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Identificació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odular clientes (Pareto)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finir y medir rendimient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finir entidad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Modular proces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Identificar actividades desde el punto de v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l Clien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ntender el modelo de Proces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orrelacionar la Organización y los recurs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ijar prioridades de Proces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Identificar los procesos medulares de la Or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699080" y="1905120"/>
            <a:ext cx="37101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Vis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tender la estructura del proces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tender el flujo del proces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dentificar actividades de Valor Agregad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ocumentar las referencias de rendimient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terminar impulsores de rendimient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lcular la oportunidad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sualizar la escena ideal Extern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Visualizar la escena ideal Intern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tegrar los escenari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finir subdivision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Solución de diseño Técnic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odular relaciones de entidad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examinar relaciones de los Proces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nstrumentar e informa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solidar intereses e informació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definir alternativa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ubicar y reprogramar control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odularizar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finir la implementación.|     CONTINUA .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8001000" y="6324480"/>
            <a:ext cx="6858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1752480" y="317520"/>
            <a:ext cx="6858000" cy="16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5. Herramientas Auxiliares.         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.      e.- “ Guia de Bolsillo”: </a:t>
            </a:r>
            <a:r>
              <a:rPr b="1" lang="es-MX" sz="1600" spc="-1" strike="noStrike">
                <a:solidFill>
                  <a:srgbClr val="0000cc"/>
                </a:solidFill>
                <a:latin typeface="Arial"/>
              </a:rPr>
              <a:t>Nota.-No existe una metodologia rigida que se pueda aplicar a todo tipo de empresa, pero si una serie de principios que deben responder a las necesidades de toda Organiz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4120" y="2173320"/>
            <a:ext cx="423468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Solución de diseño Técnico:(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ntinua)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plicar tecnologí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lanificar la implenetacio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iseño del Documento Plan de Camb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municación a to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mprometer a tod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Solució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Facultar contactos con el Cliente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recisar matrices de destreza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finir Roles por Equip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terminar necesidades de destrezas/Person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pecificar la estructura Gerenci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Rediseñar fronteras Gerenciale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specificar cambios de carg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iseñar planes de desarroll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finir la transición de la Organizació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iseñar programa de gestión de cambi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Elaborar Plan de Incentivos y premi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lanificar la implementació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841640" y="2133720"/>
            <a:ext cx="4139640" cy="30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Transformació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mpletar el diseño del Sistema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jecutar el diseño técnic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sarrollar planes de prueba de introducció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valuar al Person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struir Sistemas;</a:t>
            </a:r>
            <a:br>
              <a:rPr sz="1400"/>
            </a:b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finir indicadores de actuació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apacitar al personal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alizar pruebas piloto del nuevo proceso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Refinanciamiento y  transició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Medición y evaluación de resultad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663300"/>
                </a:solidFill>
                <a:latin typeface="Arial"/>
              </a:rPr>
              <a:t>“ </a:t>
            </a:r>
            <a:r>
              <a:rPr b="1" lang="es-MX" sz="2400" spc="-1" strike="noStrike">
                <a:solidFill>
                  <a:srgbClr val="663300"/>
                </a:solidFill>
                <a:latin typeface="Arial"/>
              </a:rPr>
              <a:t>Plan de mejora continua</a:t>
            </a:r>
            <a:r>
              <a:rPr b="1" lang="es-MX" sz="2200" spc="-1" strike="noStrike">
                <a:solidFill>
                  <a:srgbClr val="663300"/>
                </a:solidFill>
                <a:latin typeface="Arial"/>
              </a:rPr>
              <a:t>”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8001000" y="6324480"/>
            <a:ext cx="6858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16. Conclusio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533160" y="1546200"/>
            <a:ext cx="7854840" cy="483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la de  ORO”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33cc"/>
                </a:solidFill>
                <a:latin typeface="Arial"/>
              </a:rPr>
              <a:t>“ </a:t>
            </a: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Conservar lo critico y difícil</a:t>
            </a:r>
            <a:r>
              <a:rPr b="1" lang="es-MX" sz="2000" spc="-1" strike="noStrike">
                <a:solidFill>
                  <a:srgbClr val="0033cc"/>
                </a:solidFill>
                <a:latin typeface="Arial"/>
              </a:rPr>
              <a:t> “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liminar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innecesario,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o que esta fue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del foco (objetiv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o que no da Valor agregado al Proceso y lo que encarezc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buscar la mejor Calidad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, eficiencia y Productividad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lave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Actuar con inteligenci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decidir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qu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 conserva y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qu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imina  !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decisió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 puede tomar conociendo a fondo y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ie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uestro negoc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mpresa Inteligen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s la organización que posee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a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habilidades para crear, adquirir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 transferir conocimiento.Tiene también la habilidad para modificar su conducta (su manera de hacer las cosas)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;  y como efecto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808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“ </a:t>
            </a:r>
            <a:r>
              <a:rPr b="1" lang="es-ES" sz="2000" spc="-1" strike="noStrike">
                <a:solidFill>
                  <a:srgbClr val="0033cc"/>
                </a:solidFill>
                <a:latin typeface="Arial"/>
              </a:rPr>
              <a:t>Haber adquirido nuevos conocimientos y puntos de vista”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298440" cy="35100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"/>
          <a:stretch/>
        </p:blipFill>
        <p:spPr>
          <a:xfrm>
            <a:off x="1995480" y="3276720"/>
            <a:ext cx="366840" cy="38088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3"/>
          <a:stretch/>
        </p:blipFill>
        <p:spPr>
          <a:xfrm>
            <a:off x="3600360" y="4191120"/>
            <a:ext cx="339840" cy="4572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4"/>
          <a:stretch/>
        </p:blipFill>
        <p:spPr>
          <a:xfrm>
            <a:off x="7467480" y="6095880"/>
            <a:ext cx="9907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" descr=""/>
          <p:cNvPicPr/>
          <p:nvPr/>
        </p:nvPicPr>
        <p:blipFill>
          <a:blip r:embed="rId1"/>
          <a:stretch/>
        </p:blipFill>
        <p:spPr>
          <a:xfrm>
            <a:off x="1036800" y="1625760"/>
            <a:ext cx="7421400" cy="370836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765720" y="5668920"/>
            <a:ext cx="78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333333"/>
                </a:solidFill>
                <a:latin typeface="Arial"/>
              </a:rPr>
              <a:t>¡Uno solo no puede con toda la carga!!</a:t>
            </a:r>
            <a:r>
              <a:rPr b="1" i="1" lang="en-US" sz="3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433520" y="533520"/>
            <a:ext cx="6278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600" spc="-1" strike="noStrike">
                <a:solidFill>
                  <a:srgbClr val="000000"/>
                </a:solidFill>
                <a:latin typeface="Times New Roman"/>
              </a:rPr>
              <a:t>Entender las Expectativa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2"/>
          <a:stretch/>
        </p:blipFill>
        <p:spPr>
          <a:xfrm>
            <a:off x="1189080" y="1778040"/>
            <a:ext cx="7421400" cy="370836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3"/>
          <a:stretch/>
        </p:blipFill>
        <p:spPr>
          <a:xfrm>
            <a:off x="1341360" y="1930320"/>
            <a:ext cx="742176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949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7.- Reingeniería de procesos: </a:t>
            </a:r>
            <a:br>
              <a:rPr sz="3200"/>
            </a:b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Proyecto de Programa para detección de necesidades de Capacitación y Desarrollo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952560" y="1557360"/>
            <a:ext cx="678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 Proceso de transformación organizacion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7391520" y="5943600"/>
            <a:ext cx="1066680" cy="623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6" name=""/>
          <p:cNvGraphicFramePr/>
          <p:nvPr/>
        </p:nvGraphicFramePr>
        <p:xfrm>
          <a:off x="609480" y="2133720"/>
          <a:ext cx="8077320" cy="38862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133720"/>
                    <a:ext cx="807732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1207440" y="5929200"/>
            <a:ext cx="1323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(continua…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7.- Reingeniería de procesos: </a:t>
            </a:r>
            <a:br>
              <a:rPr sz="3200"/>
            </a:b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yecto  de Programa para detección de necesidades de Capacitación y Desarrollo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9581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75960" y="2205000"/>
            <a:ext cx="663480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) Diagrama con  el método actual y tradicion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b) Diagrama con el método simplificado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ingeniería de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) F.O.D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) Mapa Estratégico [causa --efecto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( Favor de ver diagramas  anexo 1, en Excel ), por 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s claro y comprensible) 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" descr=""/>
          <p:cNvPicPr/>
          <p:nvPr/>
        </p:nvPicPr>
        <p:blipFill>
          <a:blip r:embed="rId1"/>
          <a:stretch/>
        </p:blipFill>
        <p:spPr>
          <a:xfrm>
            <a:off x="7391520" y="5943600"/>
            <a:ext cx="106668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18. Bibliograf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29476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ingeniería y Procesos Empresariales.             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herman Bohlander/Snell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étodos cuantitativos de los Negoc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 Anderson /Sweeney/William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rocesos de Reingeniería, Estudios de caso del  IPADE. [ Miguel A. Ochoa  y  Enrique Taracena F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ingeniería, Editorial Norma (Michael Hammer y James Champ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ingeniería de procesos de negocios [ Henry Johansson y patrick McHug Limus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étodos y Procedimientos en el proceso de Reingeniería.-[ Humberto González- Rubio y Erasmo Marín, C.N.P.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Quality Management, A.C. (Guía e investigación de campo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Hoshin Kanri .-[Raúl Alvarado Herroz y Rafael Arana G.]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vistas Expansión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rticulo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 sobr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ingeniería de Procesos –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unio  2001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vista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nufactura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ebrero y Abril 9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9;Enero 03 );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 bus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la eficiencia, a través de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 Reingeniería/ booron y cuenta nuev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8272440" y="5443560"/>
            <a:ext cx="692280" cy="7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1295280" y="457200"/>
            <a:ext cx="7315200" cy="4876920"/>
          </a:xfrm>
          <a:prstGeom prst="lightningBol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304920"/>
            <a:ext cx="698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600" spc="-1" strike="noStrike">
                <a:solidFill>
                  <a:srgbClr val="000000"/>
                </a:solidFill>
                <a:latin typeface="Arial Black"/>
              </a:rPr>
              <a:t>Reinventarte a ti mismo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7" name=""/>
          <p:cNvGraphicFramePr/>
          <p:nvPr/>
        </p:nvGraphicFramePr>
        <p:xfrm>
          <a:off x="2771640" y="2997360"/>
          <a:ext cx="19814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997360"/>
                    <a:ext cx="19814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9" name=""/>
          <p:cNvSpPr/>
          <p:nvPr/>
        </p:nvSpPr>
        <p:spPr>
          <a:xfrm rot="21570000">
            <a:off x="0" y="0"/>
            <a:ext cx="3505320" cy="4597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al vez sea tiempo d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952880"/>
            <a:ext cx="2667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Impact"/>
              </a:rPr>
              <a:t>…</a:t>
            </a:r>
            <a:r>
              <a:rPr b="0" lang="en-US" sz="2000" spc="-1" strike="noStrike">
                <a:solidFill>
                  <a:srgbClr val="cc0000"/>
                </a:solidFill>
                <a:latin typeface="Impact"/>
              </a:rPr>
              <a:t>antes de que sea muy ta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rebuchet MS"/>
              </a:rPr>
              <a:t>Nuevas Tendencias Administrativas</a:t>
            </a:r>
            <a:r>
              <a:rPr b="1" lang="es-MX" sz="3600" spc="-1" strike="noStrike">
                <a:solidFill>
                  <a:srgbClr val="000000"/>
                </a:solidFill>
                <a:latin typeface="Trebuchet MS"/>
              </a:rPr>
              <a:t>                 “</a:t>
            </a:r>
            <a:r>
              <a:rPr b="1" lang="es-MX" sz="3200" spc="-1" strike="noStrike">
                <a:solidFill>
                  <a:srgbClr val="000000"/>
                </a:solidFill>
                <a:latin typeface="Trebuchet MS"/>
              </a:rPr>
              <a:t>Reingenieria de Procesos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66288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0000"/>
                </a:solidFill>
                <a:latin typeface="Arial"/>
              </a:rPr>
              <a:t>Gracias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or su atención y confian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905120" y="5181480"/>
            <a:ext cx="617220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ic. Jaime G. 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chez Car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jsanchez43@prodigy.net.m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371600" y="609480"/>
            <a:ext cx="73785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1. Definició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14212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Reingeniería de Procesos 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 el planteamiento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undamental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y un redis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adical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de los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procesos de negoci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, a fin de lograr mejoras espectaculares de desemp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 que hoy en día resultan criticas y obsoletas en rendimiento y competitividad, (como costos fijos y variable, de calidad en servicios, y velocidad (en sentido de la rapidez y de la oportunida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1" lang="es-MX" sz="2400" spc="-1" strike="noStrike">
                <a:solidFill>
                  <a:srgbClr val="663300"/>
                </a:solidFill>
                <a:latin typeface="Arial"/>
              </a:rPr>
              <a:t>Es reinventar los procesos de la Empre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s iniciar de “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Arial"/>
              </a:rPr>
              <a:t>O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  “. Para revolucionar los procesos de la Orga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7238880" y="5897520"/>
            <a:ext cx="1219320" cy="7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37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2. Objetiv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820872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Que es Reingeniería de Procesos (?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s hacer lo mismo pero de mejor forma de trabajar,  + inteligentemente;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Se Orienta a los participantes hacia la satisfacción de los consumidores-[el Cliente ] y a la optimización de los proce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Modificar la conducta y actitudes de las personas con el fin de lograr un clima Organizacional mas participativo con cambios positivos y proactivos en el desemp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 individu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nocer como se dividen las responsabilidades de la organización, el dis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 de sus Sistemas, la motivación a los empleados y sus result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omprobar de manera vivencial el impacto de los resultados que se obtienen cuando los sistemas son dis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ados con  el compromiso,  participaci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, e involucramiento total  del person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Crear  un compromiso de trabajo en equipo para  la satisfacción del cliente con la eficiente implicación de los sistemas establecidos para este fin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n mejor comunicación dimensional en tiempo, calidad y cost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7467480" y="6095880"/>
            <a:ext cx="9907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395280" y="1557360"/>
            <a:ext cx="84247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Que es Reingeniería de Procesos (?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+  Metodología cuyo enfoque debe ser el cambio de las relaciones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t       re los elementos o partes que conforman un proce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roductivo para alcanzar una transformación radical en l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dicadores de desempeñ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+  Es hacer lo mismo pero de mejor forma,  trabajar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teligentement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+  Es rediseñar los procesos de manera que no esté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ragmentados ni incomunic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564000" y="404640"/>
            <a:ext cx="240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. Objetivo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71600" y="333360"/>
            <a:ext cx="7378560" cy="87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3. - Alca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cc"/>
                </a:solidFill>
                <a:latin typeface="Arial"/>
              </a:rPr>
              <a:t>La  Reingeniería de Procesos (?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0000cc"/>
                </a:solidFill>
                <a:latin typeface="Arial"/>
              </a:rPr>
              <a:t> 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barca  tres  diferentes  enfoques  administrativos  hacia  el  cambio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ejora 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s-ES" sz="2400" spc="-1" strike="noStrike">
                <a:solidFill>
                  <a:srgbClr val="808080"/>
                </a:solidFill>
                <a:latin typeface="Arial"/>
              </a:rPr>
              <a:t>.</a:t>
            </a:r>
            <a:r>
              <a:rPr b="1" lang="es-MX" sz="2400" spc="-1" strike="noStrike">
                <a:solidFill>
                  <a:srgbClr val="808080"/>
                </a:solidFill>
                <a:latin typeface="Arial"/>
              </a:rPr>
              <a:t>                           </a:t>
            </a:r>
            <a:r>
              <a:rPr b="1" lang="es-MX" sz="2400" spc="-1" strike="noStrike">
                <a:solidFill>
                  <a:srgbClr val="663300"/>
                </a:solidFill>
                <a:latin typeface="Arial"/>
              </a:rPr>
              <a:t>Actitudes y compete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dis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o de proces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:     </a:t>
            </a:r>
            <a:r>
              <a:rPr b="1" lang="es-MX" sz="2400" spc="-1" strike="noStrike">
                <a:solidFill>
                  <a:srgbClr val="663300"/>
                </a:solidFill>
                <a:latin typeface="Arial"/>
              </a:rPr>
              <a:t>Cambio radical con Valor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3300"/>
                </a:solidFill>
                <a:latin typeface="Arial"/>
              </a:rPr>
              <a:t>                                                  </a:t>
            </a:r>
            <a:r>
              <a:rPr b="1" lang="es-MX" sz="2400" spc="-1" strike="noStrike">
                <a:solidFill>
                  <a:srgbClr val="663300"/>
                </a:solidFill>
                <a:latin typeface="Arial"/>
              </a:rPr>
              <a:t>Agregado.</a:t>
            </a:r>
            <a:r>
              <a:rPr b="1" lang="es-MX" sz="2000" spc="-1" strike="noStrike">
                <a:solidFill>
                  <a:srgbClr val="663300"/>
                </a:solidFill>
                <a:latin typeface="Arial"/>
              </a:rPr>
              <a:t>                                                                                                     </a:t>
            </a:r>
            <a:r>
              <a:rPr b="0" lang="es-ES" sz="2000" spc="-1" strike="noStrike">
                <a:solidFill>
                  <a:srgbClr val="6633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ingeniería de Procesos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s-MX" sz="2400" spc="-1" strike="noStrike">
                <a:solidFill>
                  <a:srgbClr val="663300"/>
                </a:solidFill>
                <a:latin typeface="Arial"/>
              </a:rPr>
              <a:t>Replanteamiento de lo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663300"/>
                </a:solidFill>
                <a:latin typeface="Arial"/>
              </a:rPr>
              <a:t>                                                   </a:t>
            </a:r>
            <a:r>
              <a:rPr b="1" lang="es-MX" sz="2400" spc="-1" strike="noStrike">
                <a:solidFill>
                  <a:srgbClr val="663300"/>
                </a:solidFill>
                <a:latin typeface="Arial"/>
              </a:rPr>
              <a:t>fundamental.</a:t>
            </a:r>
            <a:r>
              <a:rPr b="0" lang="es-MX" sz="2400" spc="-1" strike="noStrike">
                <a:solidFill>
                  <a:srgbClr val="66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300" spc="-1" strike="noStrike">
                <a:solidFill>
                  <a:srgbClr val="000000"/>
                </a:solidFill>
                <a:latin typeface="Arial"/>
              </a:rPr>
              <a:t>`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7467480" y="5715000"/>
            <a:ext cx="114300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3785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4. Riesg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81040" y="1484280"/>
            <a:ext cx="8029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cc"/>
                </a:solidFill>
                <a:latin typeface="Arial"/>
              </a:rPr>
              <a:t>Con la  Reingeniería de Procesos (?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Arial"/>
              </a:rPr>
              <a:t>La estructura tradicional (costumbre y hábitos) que impide resultados Innovadores, (ceguera de taller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Arial"/>
              </a:rPr>
              <a:t>No identificar con  oportunidad los conflictos internos que inhiban la instrumentación interfuncional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Arial"/>
              </a:rPr>
              <a:t>No establecer quien es el LEADER, (titular de los procesos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Arial"/>
              </a:rPr>
              <a:t>No auspiciar el proceso en forma directa con los ejecutivo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Arial"/>
              </a:rPr>
              <a:t>No saber manejar las dificultades y costos resultantes que superen a los resultados presupuestados. (manejo de contingencias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333333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000000"/>
                </a:solidFill>
                <a:latin typeface="Arial"/>
              </a:rPr>
              <a:t>Selección de procesos erróneos: Para que su impacto sea exitoso deberán de tratarse de procesos centrales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7315200" y="5892840"/>
            <a:ext cx="1143000" cy="7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4:39:10Z</dcterms:created>
  <dc:creator>Jaime G. Sanchez Carrillo</dc:creator>
  <dc:description/>
  <dc:language>en-US</dc:language>
  <cp:lastModifiedBy> Jaime G.Sanchez C.</cp:lastModifiedBy>
  <dcterms:modified xsi:type="dcterms:W3CDTF">2010-01-30T02:13:14Z</dcterms:modified>
  <cp:revision>123</cp:revision>
  <dc:subject/>
  <dc:title>Nuevas Tendencias Administrativas                 “Outsourcing“</dc:title>
</cp:coreProperties>
</file>